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7971A7-CA7E-4AD5-8175-9336504B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0182D9D-B177-4C7F-9CB4-AE9CC8F5F2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110FAD-A998-438B-B07A-F3CE4F891F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29EC79-1A9C-4C0F-8B0B-1BD5A07E29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CBE163-A31D-49B8-8FA6-89C3CC3BA9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81C5D0-74D8-462C-B714-1D04F226FB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313B05-84A7-42B0-BCE2-CBD03539DF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16812A-3FD2-420A-99CF-86B471C70F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509BD5-244D-46F9-B5B3-4DE5794B48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C9A0C22-14AA-412D-9FDB-D96061114E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81DC9C2-57CD-4734-8E9F-A6AB976BA2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1B4720D-DF17-4AAF-AAD7-205AD0FFB0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6F1C26D-9B59-4C22-BC9D-599766CA85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4B2A61-E192-46D6-A179-2E289E597D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C47D6E2-525B-4D91-B346-75E062E687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A16D4A-32A9-4975-BD75-C5B678C4C2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9B8EECC-40A3-4E09-A8F1-EA1770159E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A5259BC-6C4C-447E-9F65-3E0C33D5A9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96F6769-B926-4EB5-8906-9713220205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3AC9AF-6EDF-4111-A39A-C9350DE489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5207EE0-78F2-4E14-9DB1-5496ED7945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33EF24-E95B-43A5-8D12-FA28E806BB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7515F2B-D4EB-4A01-8ECE-65CAFD82DD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A5EF469-59C8-492E-A364-3A83575AC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CE368A-DBE0-4EBB-9727-D9ABA1C3BF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D9E0B3-DE7B-4E2A-9B7A-C4B0F9AB28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2F03BF-1ECA-475D-AE6C-A4DFCA5806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838D89C-4ADE-4022-ACD7-C600B598A3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EF35-EE80-4400-8E13-027738B7F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2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alking and Homicid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280" y="380880"/>
            <a:ext cx="8334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reat Assessment of Stalkers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ttended col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ly i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histories of arrest for violent c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es of harassing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es of explosive, angry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histories of physical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es of serious depression or des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suic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of Stal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99036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perpetrators are 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profile of a st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ty or mental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fied demo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half are Caucas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o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hird, history of adult violent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cteristics of Perpetrato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relationship – private figur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imate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quaintance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evious relationship or limited /inci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figure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stranger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ategories of Stalk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or Simple Obsessional Stal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ve Obsessional Stal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oto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geance and Terrorism Stal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 Law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California first state to pas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ates consider it to be a felony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created and defined criminal offense, laws vary from state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ly written statutes, difficult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state Stalking Punishment and Preven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vestigative Strateg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0663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The Victim’s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Victimization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The Offender’s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hering Physical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Previous Law Enforcemen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ing Third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ing Circumstantial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In Obtaining Restraining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ategories of Hom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fiable 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usable 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onious 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Battered Women’s Syndrom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excusable homic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um of violence excuses the woman who kills her husband, legally just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of learned helpless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aracteristics of syndr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believes violence is her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has inability to place responsibility else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fears for her life and/or her children’s l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has an irrational belief, abuser is omnipresent and omnis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Hom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are spouses or ex-spo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imate partner homicid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known as family killing, the killing of a spouse, ex-spouse, boyfriend, or girl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between intimate partner homicide, stalking, and intimate partner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emicid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killing of a woman by her relative, friend or l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commit the majority of these mu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Homicide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p 11 percent of all mu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atalyst – separation or the start of legal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dangerous times, 3 months to 1 year after the sepa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s have declined since 1975, lowest recorded in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ervices to female victims increased, homicides decrea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king defined as a pattern of repeated and unwanted attention, harassment, contact, or any other course of conduct directed at a specific person that would cause a reasonable person to feel f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oneering legislative action in California coined 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l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isk Factors in Homicid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ed history of intimate partner violence is the most significant risk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wo thirds of spouse and ex-spouse victims were killed by g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 of factors increase the likelih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ser is unemploy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g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ts of deadly violenc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ser is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illness 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icit drug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criminal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Homicide Defendan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defendants more likely to be convicted of lesser grades of homic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ctioned less sever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s defendants treated more harsh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s more severely sanctioned than other males convicted of non-intimate homi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s is defensive and occurs within the context of a history of domestic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micide-Su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Violent Death Reporting System (NVDRS) recently established to track suicide-homicid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2 percent of all homicides are classified as cases of murder-sui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husband kills his wife or partner and within minutes or hours commits suic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mil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as a multiple-victim homicide incident in which the killer’s spouse or ex-spouse and one or more children is sl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rcent of homicides of children and youth were committed as part of multiple-victim family homic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perpetrated by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divided between sons and daugh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ay and Lesbian Partner Hom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ame sex homicides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rors the violence in the heterosexual sexual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Coalition of Anti-Violence Programs are among the few organizations that collect information on intimate partner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micide in Later Lif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9072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er adults have homicide-suicide rates that are twice as high as those of younger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le for 1,000 death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older Americans die each week in homicide-sui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of desperation and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-prot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io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vestigative Strateg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6, more than 64,000 men and women are been murdered by intimate part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are most often the perpetrators and the victims of homi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are nine times more likely than women to commit mu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s to assist police officers established unde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cey v. Arizon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ath Review Tea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multidisciplinary team was to share resources and information in the forensic investigation of child fata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child review teams are available in all 50 stat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er-Agency Council on Child Abuse and Neglec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C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, the first elder review team was established in 2000, in Califor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DIRT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rpose is to assist in the identification and prosecution of elder-abuse related dea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fornia responded as the first state to pass antistalking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known as the crime of the 199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stimated that stalkers are violent toward their victims period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likely to be violent are those that have had an intimate relationship with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ght percent of women and 2 percent of men have been stalked in their life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-neutral c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stalking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tern of behavior that is intended to cause harm or to instill fear in a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or harassing is the typical characteristic of the off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sists of a series of actions rather than a singl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petitive actions instill significant fear of bodily harm or cause injury, it constitutes a pattern that is illeg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 Behavio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s of the stalker are var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ly attempt to intimidate and control their victi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ence occurs in 30 to 50 percent of stalking c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violence noted in 6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pons are used to harm or threaten victim and the pattern of contac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are pursued at least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 Pursuit Character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14264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ing the subject in pers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part in surveill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letters/cards/fax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glariz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ackages or gif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third party to contact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king over cyber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mmon Elements of Stal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tanding outside of home, spying on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080" indent="-4420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arming the person and annoy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080" indent="-4420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ifficult to estab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oes not need to be written or ver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inting a finger with 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ad animal at doorst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ctims of Stal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one, male or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of five victims are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were victims 20 percent of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adults primar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ictims know their st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women, stalking occurs as part of intimate partner viol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afety Precautions for Stalking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 a house 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mailbox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n answer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new and unlisted tele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cell phone and carry it at all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everything, keep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log of suspicious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a confidential voter stats and new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k car in lit area and lock do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 car with 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28:32Z</dcterms:modified>
  <cp:revision>140</cp:revision>
  <dc:subject/>
  <dc:title>Slide 1</dc:title>
</cp:coreProperties>
</file>